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7966-065B-4618-93BA-903E6479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7327-1AF4-45E0-BFB5-AA8045DE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2178000" y="585720"/>
            <a:ext cx="2946600" cy="2211480"/>
          </a:xfrm>
          <a:prstGeom prst="rect">
            <a:avLst/>
          </a:prstGeom>
          <a:ln w="0">
            <a:noFill/>
          </a:ln>
        </p:spPr>
      </p:sp>
      <p:sp>
        <p:nvSpPr>
          <p:cNvPr id="81" name="PlaceHolder 2"/>
          <p:cNvSpPr>
            <a:spLocks noGrp="1"/>
          </p:cNvSpPr>
          <p:nvPr>
            <p:ph type="body"/>
          </p:nvPr>
        </p:nvSpPr>
        <p:spPr>
          <a:xfrm>
            <a:off x="701280" y="2928600"/>
            <a:ext cx="5607000" cy="5670360"/>
          </a:xfrm>
          <a:prstGeom prst="rect">
            <a:avLst/>
          </a:prstGeom>
          <a:noFill/>
          <a:ln w="0">
            <a:noFill/>
          </a:ln>
        </p:spPr>
        <p:txBody>
          <a:bodyPr lIns="93600" rIns="93600" tIns="46800" bIns="46800" anchor="t">
            <a:noAutofit/>
          </a:bodyPr>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O WE NEED TIME MANAGEMENT?</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Despite all the things designed to make our lives easier—microwaves, stoves that cook </a:t>
            </a:r>
            <a:r>
              <a:rPr b="0" lang="en-US" sz="1200" spc="-1" strike="noStrike" u="sng">
                <a:solidFill>
                  <a:srgbClr val="000000"/>
                </a:solidFill>
                <a:uFillTx/>
                <a:latin typeface="Arial"/>
              </a:rPr>
              <a:t>and</a:t>
            </a:r>
            <a:r>
              <a:rPr b="0" lang="en-US" sz="1200" spc="-1" strike="noStrike">
                <a:solidFill>
                  <a:srgbClr val="000000"/>
                </a:solidFill>
                <a:latin typeface="Arial"/>
              </a:rPr>
              <a:t> refrigerate, washers that wash </a:t>
            </a:r>
            <a:r>
              <a:rPr b="0" lang="en-US" sz="1200" spc="-1" strike="noStrike" u="sng">
                <a:solidFill>
                  <a:srgbClr val="000000"/>
                </a:solidFill>
                <a:uFillTx/>
                <a:latin typeface="Arial"/>
              </a:rPr>
              <a:t>and</a:t>
            </a:r>
            <a:r>
              <a:rPr b="0" lang="en-US" sz="1200" spc="-1" strike="noStrike">
                <a:solidFill>
                  <a:srgbClr val="000000"/>
                </a:solidFill>
                <a:latin typeface="Arial"/>
              </a:rPr>
              <a:t> dry—our lives are busier than ever.  Most of us rush around with more things on our to-do list than time to complete it all.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omen’s Ministries Leaders find they have a family to look after, often work full or part-time, and are involved with church responsibilities. Included in these responsibilities is Women’s Ministries.</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ccomplish it all? With God’s strength.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does not want us over-worked or over-burdened. He promised that He would give us rest. God longs for us to do only what He has called us to do and to let everything else go.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od as our time manager, our lives can be different. Yes, they will still be busy. Yes, we will still have days when we wonder if we can get everything done. And there will be days when things go undone. But by allowing God control of our calendars and commitments, we will experience the freedom of trusting Him to accomplish through us what He desires. </a:t>
            </a:r>
            <a:endParaRPr b="0" lang="en-US" sz="1200" spc="-1" strike="noStrike">
              <a:solidFill>
                <a:srgbClr val="000000"/>
              </a:solidFill>
              <a:latin typeface="Arial"/>
            </a:endParaRPr>
          </a:p>
          <a:p>
            <a:pPr marL="311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has shown that people who work in an organized, calm way accomplish more than those who are constantly rushing through their agenda in an attempt to accomplish too much. People who are hurried are less creative, less effective, and ultimately less healthy— physically, mentally, and spiritually! Time management is valuable to everyone. It can help you accomplish more in the same or less amount of time than if you were rushing. It can help you be more effective and reduce the amount of stress in your life. And with God as part of your time management team, you’ll be accomplishing the most important items on His agend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507B-059D-4E77-AFE3-6E0D3912A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3344760" y="195120"/>
            <a:ext cx="2968560" cy="2227320"/>
          </a:xfrm>
          <a:prstGeom prst="rect">
            <a:avLst/>
          </a:prstGeom>
          <a:ln w="0">
            <a:noFill/>
          </a:ln>
        </p:spPr>
      </p:sp>
      <p:sp>
        <p:nvSpPr>
          <p:cNvPr id="106" name="PlaceHolder 2"/>
          <p:cNvSpPr>
            <a:spLocks noGrp="1"/>
          </p:cNvSpPr>
          <p:nvPr>
            <p:ph type="body"/>
          </p:nvPr>
        </p:nvSpPr>
        <p:spPr>
          <a:xfrm>
            <a:off x="544680" y="2225520"/>
            <a:ext cx="5999040" cy="6562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MEETING MANAGEMENT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meetings, to make them more time efficient, remember the steps to organizing your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 about the agenda. </a:t>
            </a:r>
            <a:r>
              <a:rPr b="0" lang="en-US" sz="1200" spc="-1" strike="noStrike">
                <a:solidFill>
                  <a:srgbClr val="000000"/>
                </a:solidFill>
                <a:latin typeface="Arial"/>
              </a:rPr>
              <a:t>If possible, pray to open the meeting. Ask God’s guidance and wisdom. Seek God’s will. Too many times at meetings, even within churches and ministries, we attempt to get business done and totally forget to seek God’s input on what He desires us to 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ize your agenda. </a:t>
            </a:r>
            <a:r>
              <a:rPr b="0" lang="en-US" sz="1200" spc="-1" strike="noStrike">
                <a:solidFill>
                  <a:srgbClr val="000000"/>
                </a:solidFill>
                <a:latin typeface="Arial"/>
              </a:rPr>
              <a:t>Begin with the most important topics. That way, you give your best energy to the most important. If the meeting needs to end at a certain time, the most important items will have been cover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your mission and purpose.</a:t>
            </a:r>
            <a:r>
              <a:rPr b="0" lang="en-US" sz="1200" spc="-1" strike="noStrike">
                <a:solidFill>
                  <a:srgbClr val="000000"/>
                </a:solidFill>
                <a:latin typeface="Arial"/>
              </a:rPr>
              <a:t> What is the purpose of your meeting? Don’t get caught up in the trivial. Make sure what you do—even in your meetings—fits with your mission and purpose. (i.e. We can spend a lot of time discussing the decorations for a Women’s Ministries event and neglect putting much time into discussing ways of drawing women to Christ which is truly our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 your agenda a few days before your meeting.</a:t>
            </a:r>
            <a:r>
              <a:rPr b="0" lang="en-US" sz="1200" spc="-1" strike="noStrike">
                <a:solidFill>
                  <a:srgbClr val="000000"/>
                </a:solidFill>
                <a:latin typeface="Arial"/>
              </a:rPr>
              <a:t> This allows people time to pray and think about the items that will be discuss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 others to contribute to your agenda.</a:t>
            </a:r>
            <a:r>
              <a:rPr b="0" lang="en-US" sz="1200" spc="-1" strike="noStrike">
                <a:solidFill>
                  <a:srgbClr val="000000"/>
                </a:solidFill>
                <a:latin typeface="Arial"/>
              </a:rPr>
              <a:t> Make it possible for leaders and those who are chairing committees to add to the items to be discussed. You can do this several way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deadline for people to submit agenda items. Make sure they know how to contact you—either through the telephone or email, or if you need the item on 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eople to add to the agenda at the beginning of the meeting. The disadvantage to this is that you may lengthen your meeting; you may get “surprises” that you didn’t expect; and it doesn’t allow other committee members time to think and pray beforehand about the it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add each department or committee to the agenda so that they can give a report on what they’re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gin and end your meeting on time. </a:t>
            </a:r>
            <a:r>
              <a:rPr b="0" lang="en-US" sz="1200" spc="-1" strike="noStrike">
                <a:solidFill>
                  <a:srgbClr val="000000"/>
                </a:solidFill>
                <a:latin typeface="Arial"/>
              </a:rPr>
              <a:t>It’s very important to begin and end your meetings at the time you’ve set. It will keep the meeting flowing, but will allow everyone to know in advance how long the meeting will be, thus allowing them to better plan their own schedules.  This applies to all meetings and programs you are responsible f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ime limits for discussion.</a:t>
            </a:r>
            <a:r>
              <a:rPr b="0" lang="en-US" sz="1200" spc="-1" strike="noStrike">
                <a:solidFill>
                  <a:srgbClr val="000000"/>
                </a:solidFill>
                <a:latin typeface="Arial"/>
              </a:rPr>
              <a:t> You may want to plan in advance how much time is spent discussing each item, as well as who will lead the discussion or explain the proposal. If you get stuck on one item, take time to pray about it—asking for unity and God’s guidance. If you still cannot make a decision on the item or come to an agreement, table the discussion to the next meeting, giving every one more time to pray and think about the i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B18D-DF6F-4392-96EE-109A7E588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552680" y="585720"/>
            <a:ext cx="3884400" cy="2914560"/>
          </a:xfrm>
          <a:prstGeom prst="rect">
            <a:avLst/>
          </a:prstGeom>
          <a:ln w="0">
            <a:noFill/>
          </a:ln>
        </p:spPr>
      </p:sp>
      <p:sp>
        <p:nvSpPr>
          <p:cNvPr id="109" name="PlaceHolder 2"/>
          <p:cNvSpPr>
            <a:spLocks noGrp="1"/>
          </p:cNvSpPr>
          <p:nvPr>
            <p:ph type="body"/>
          </p:nvPr>
        </p:nvSpPr>
        <p:spPr>
          <a:xfrm>
            <a:off x="701280" y="3789000"/>
            <a:ext cx="5607000" cy="4809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to the agenda. It’s easy to get side tracked or to stray from the topics on hand. Stick with the allocated order and times. Stay firm with the agenda to gain respect as a productiv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genda might look like this: </a:t>
            </a:r>
            <a:r>
              <a:rPr b="1" lang="en-US" sz="1200" spc="-1" strike="noStrike">
                <a:solidFill>
                  <a:srgbClr val="000000"/>
                </a:solidFill>
                <a:latin typeface="Arial"/>
              </a:rPr>
              <a:t>(OH-8) (See Power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5368-2219-4736-91F2-592378551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944720" y="585720"/>
            <a:ext cx="2890800" cy="2170080"/>
          </a:xfrm>
          <a:prstGeom prst="rect">
            <a:avLst/>
          </a:prstGeom>
          <a:ln w="0">
            <a:noFill/>
          </a:ln>
        </p:spPr>
      </p:sp>
      <p:sp>
        <p:nvSpPr>
          <p:cNvPr id="112" name="PlaceHolder 2"/>
          <p:cNvSpPr>
            <a:spLocks noGrp="1"/>
          </p:cNvSpPr>
          <p:nvPr>
            <p:ph type="body"/>
          </p:nvPr>
        </p:nvSpPr>
        <p:spPr>
          <a:xfrm>
            <a:off x="701280" y="3007800"/>
            <a:ext cx="5607000" cy="492156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meeting, have someone keep notes as to what decisions were made, what action was taken, what needs to be followed through on, etc. They can be written in the form of minutes or as an Action Sheet: </a:t>
            </a:r>
            <a:r>
              <a:rPr b="1" lang="en-US" sz="1200" spc="-1" strike="noStrike">
                <a:solidFill>
                  <a:srgbClr val="000000"/>
                </a:solidFill>
                <a:latin typeface="Arial"/>
              </a:rPr>
              <a:t>(Oh-9) (See PowerPoi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PROJECT MANAGEM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would be manageable if we did only one thing at a time, worked on only one project at a time. But the reality of our lives is that we will always be multi-tasking and have more than one project happening at one time. How do we keep track of what needs to be done for multiple tasks and stay on top of all the details for each one all at the same time? Many of the tools we’ve already discussed will hel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all the details that need to be done and the deadlines on your calendar. Schedule time to work on each item. Putting them on your calendar will not only remind you of what needs to be done, but will set aside time to work on each proje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everything that needs to be done for each project. Make sure to include all details—phone calls, letters to be sent, etc. If you’ve delegated parts of the project, include times to contact the person working on the project to touch ba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backwards from your deadline, schedule the details on your calend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ay you were planning a tea for the women of your community and church. What details would need to be done? Make a li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the use of the church fellowship hall or other loc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to the decorating committee about ideas and vision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church bullet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the event in the local newspap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ing invitations to members who are not attending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4B67-09FE-4BD6-B0DA-8428100E0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body"/>
          </p:nvPr>
        </p:nvSpPr>
        <p:spPr>
          <a:xfrm>
            <a:off x="544320" y="429840"/>
            <a:ext cx="5608440" cy="8202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xtra invitations available at church for church members to hand deli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ing and scheduling your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a gift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 treasurer for a check for the speak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the menu with those who will be taking care of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ing suppl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special music.</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a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for a short inspirational reading to begin the pro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omeone to have a blessing for the me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brochure on the church and its programs available to give to guests afterwa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ng enough teapots and teacups from church members to borrow for the ev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ist might have more or less item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aking your list, begin to schedule each item on your calendar. If the event is planned for May 20, you will want your invitations in the mail two weeks before. So write that detail down to do on May 6. You might want to begin advertising three weeks in advance, so make a note to contact the church bulletin secretary and to write an article for the local newspaper on April 29. A week before the event, you schedule time to purchase a gift for the speaker and to call the treasurer to ask for a check. A month before the event you schedule time to meet with various committees to begin working on the different aspects of the event—decorations, food, program. Make a note to speak with each person in charge of something one week before to double check that things are going smooth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break each project down into small to-do’s and schedule them on your calendar, each project will run smoothly and you won’t need to stress about forgetting something or having to do too much at one time. Because you are scheduling, you can balance how much work you need to do each d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delegate as much as possible. Pray over every detail of your event. With God’s help and the help of a good team, you’ll be surprised at how things will flow and work out despite the number of activities you’re involved 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F4CB-E676-4CC7-A2B4-627A542BB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3657600" y="195120"/>
            <a:ext cx="2811600" cy="2109960"/>
          </a:xfrm>
          <a:prstGeom prst="rect">
            <a:avLst/>
          </a:prstGeom>
          <a:ln w="0">
            <a:noFill/>
          </a:ln>
        </p:spPr>
      </p:sp>
      <p:sp>
        <p:nvSpPr>
          <p:cNvPr id="117" name="PlaceHolder 2"/>
          <p:cNvSpPr>
            <a:spLocks noGrp="1"/>
          </p:cNvSpPr>
          <p:nvPr>
            <p:ph type="body"/>
          </p:nvPr>
        </p:nvSpPr>
        <p:spPr>
          <a:xfrm>
            <a:off x="466200" y="2070000"/>
            <a:ext cx="5999400" cy="67960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  “YOU” MANAGEMENT (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ur schedules are so full, there are things that have to go undone. Good things. But there’s just not enough room in our day for everything. Unfortunately, too often what goes is time to take care of us, time for our family and friends, time for fun. We are so busy working; we forget the importance of relaxation, people, and fun. That’s not what God intends. He did not create us to be workaholics. He created us to be people. Jesus’ ministry lasted only three years. There was much that could have been done. Yet Christ always took time for prayer and for people. He went away by Himself often to refresh and renew Himself and His relationship with His Father—setting an example for u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nclude time in our schedules to take care of our bodies, our relationships, and our spiritual liv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d health is important. </a:t>
            </a:r>
            <a:r>
              <a:rPr b="0" lang="en-US" sz="1200" spc="-1" strike="noStrike">
                <a:solidFill>
                  <a:srgbClr val="000000"/>
                </a:solidFill>
                <a:latin typeface="Arial"/>
              </a:rPr>
              <a:t>Not only will it help us to live longer lives, but it will cause us to be more productive as well. Eating healthy foods, exercising, drinking plenty of water, getting enough sleep, and fresh air will all help us to feel better, have more clarity in thinking, and give us more energy and focus. But too often in our busy lives we eat whatever we can grab, skip exercising, grab a sugar laden drink instead of water, get fresh air only when we’re rushing from our car to an appointment, and get way too little sleep. We believe that making time for exercise, sleep, and eating healthy takes too much time. Wrong! Doing these things will actually make us more produc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a healthy life does take some preplan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hedule in time for exercise several times a week, preferable daily. How do you schedule in another item in an already filled day? Combine activities. Go for a brisk walk while you pray. Exercise, using a treadmill for instance, while you watch the news or other television shows you take time to watch. Get little bursts of exercise by taking the stairs instead of the elevator, parking as far from the building as you can, taking a quick walk around the block during your lunch hour (just keep some walking shoes in your desk drawer), or take a walk with your husband or friend in the evening—using the time to talk while getting in some exercise and fresh ai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ommitment to go to bed early. If you haven’t completed your tasks by 9:00 pm, then reschedule those jobs for the next day and go to bed. You will have more energy and clearer thinking if you get enough sleep. The National Sleep Foundation estimates that one quarter of the adult population in America doesn’t get enough sleep. Lack of sleep can interfere with memory, energy levels, mental abilities, and emotional moods (causing us to be irritable or angry.) It also weakens our immune system, making us more susceptible to diseases and disorders ranging from diabetes to cancer to the common cold. It affects both our mental and physical health. The average adult needs six to nine hours of sleep. Having a regular bedtime and rising time will help us to feel more alert, make our mood more pleasant and keep us healthy. It may mean cutting out activities or TV programs, but it’s worth the eff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FD77-6294-464C-9EF7-B386E6C4B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body"/>
          </p:nvPr>
        </p:nvSpPr>
        <p:spPr>
          <a:xfrm>
            <a:off x="466560" y="430200"/>
            <a:ext cx="5842080" cy="81691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the importance of healthy eating. Studies have shown that a diet heavy in refined sugars and fat not only lead to health risks, but cause us to be more sluggish and tired. Yet many of us eat on the run, grabbing whatever we can as we go. We eat many meals in the car as we drive to another appointment or errand. Eating healthy foods does not have to be a burden on our schedules; but it may require preplanning. Purchase healthy foods and snacks when grocery shopping. Keep them on hand and ready to go. Carrot sticks and celery, peanut butter and apples, pretzels, prepackaged salad, nuts and other fruits are all healthy alternatives to the office donuts and pastries, or what the vending machine has to offer. Carry a water bottle in your car and keep another on your desk. This will not only help to remind you to drink plenty of water, but will cut down on the temptation to grab a soda from the machin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n time for the family dinner. Sit down together to a healthy meal. (There are cookbooks available with healthy recipes that can be prepared in half an hour.) Not only will this benefit your physical health, but it will help to keep your family relationships healthy as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time for relationships.</a:t>
            </a:r>
            <a:r>
              <a:rPr b="0" lang="en-US" sz="1200" spc="-1" strike="noStrike">
                <a:solidFill>
                  <a:srgbClr val="000000"/>
                </a:solidFill>
                <a:latin typeface="Arial"/>
              </a:rPr>
              <a:t> In the scheme of things, our relationships with people are one of the most important parts of our lives. While we can’t take our home, car, clothes, job, or other materials with us to heaven, we can impact the lives of our family and friends in such a way that they choose a relationship with Christ and heaven. They’re the only things we can “take” with us. Plus, friendships keep us sane. When women are stressed and talk to a friend, a hormone, oxitoshin, is released that calms our system—not only causing us to feel better mentally, but lowering our risk for stress-related illnesses and premature death by 6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chedule in time for friends. Lunch out with a friend. Dinner with our family. A “date night” with our husband. Write it on the calendar. Remind yourself of the importance of people, relationships, and time out having fun with people you lov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ime for God. </a:t>
            </a:r>
            <a:r>
              <a:rPr b="0" lang="en-US" sz="1200" spc="-1" strike="noStrike">
                <a:solidFill>
                  <a:srgbClr val="000000"/>
                </a:solidFill>
                <a:latin typeface="Arial"/>
              </a:rPr>
              <a:t>This is the most important relationship in our lives. But it is also often one of the first things to go from our schedule. Spending time with God. Praying. Bible study. Only 37% of adults take time to read the Bible each day. (Barna Research 200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schedule in time to spend with God each day. Many people find that beginning the day is the best time in their schedule. It may mean going to bed a little earlier so that you can get up earlier. But it needs to be a priority in our lives. All of our accomplishments mean nothing if they’re done apart from our relationship with God – even if they’re done </a:t>
            </a:r>
            <a:r>
              <a:rPr b="0" i="1" lang="en-US" sz="1200" spc="-1" strike="noStrike">
                <a:solidFill>
                  <a:srgbClr val="000000"/>
                </a:solidFill>
                <a:latin typeface="Arial"/>
              </a:rPr>
              <a:t>for</a:t>
            </a:r>
            <a:r>
              <a:rPr b="0" lang="en-US" sz="1200" spc="-1" strike="noStrike">
                <a:solidFill>
                  <a:srgbClr val="000000"/>
                </a:solidFill>
                <a:latin typeface="Arial"/>
              </a:rPr>
              <a:t> Him. He doesn’t want our work; He wants us. It’s not about our adequacy; it’s about intimacy. Our works come from our relationship with Him. In order for that to happen, we need the relationshi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t on your schedule. Plan for it. Guard 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reat our commitments to exercise, time with family and friends, and time with God with the importance that we give to other appointments. When someone asks for us to commit that time to something else, simply say, “I’m sorry, I already have a commitment for that time. Is there another tim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us to best manage our time, we need to have balance in our lives. Our lives run better when we learn how to better manage our projects and schedules, but it is also important to make sure our days are balanced. We need time to work on our projects, ministries, and jobs; but we also need time for God, family, friends, and ourselv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2006-73ED-4385-9C18-C50EB89C5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body"/>
          </p:nvPr>
        </p:nvSpPr>
        <p:spPr>
          <a:xfrm>
            <a:off x="701280" y="820440"/>
            <a:ext cx="5607000" cy="7778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II.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ives are busy. And as Women’s Ministries leaders, they will always be busy. But as we allow God to be our time manager, giving Him our plans, schedules, agendas, and programs, we will accomplish what is most important and not feel over-burdened or over-worked. He invites us, </a:t>
            </a:r>
            <a:r>
              <a:rPr b="0" i="1" lang="en-US" sz="1200" spc="-1" strike="noStrike">
                <a:solidFill>
                  <a:srgbClr val="000000"/>
                </a:solidFill>
                <a:latin typeface="Arial"/>
              </a:rPr>
              <a:t>Come to Me, all you who labor and are heavy laden, and I will give you rest. Take My yoke upon you and learn from Me, for I am gentle and lowly in heart, and you will find rest for your souls. For My yoke is easy and My burden is light.</a:t>
            </a:r>
            <a:r>
              <a:rPr b="0" lang="en-US" sz="1200" spc="-1" strike="noStrike">
                <a:solidFill>
                  <a:srgbClr val="000000"/>
                </a:solidFill>
                <a:latin typeface="Arial"/>
              </a:rPr>
              <a:t> Matthew 11:28-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ED64-D5D2-40D2-826C-DD3C54554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3502080" y="195120"/>
            <a:ext cx="2654280" cy="1992600"/>
          </a:xfrm>
          <a:prstGeom prst="rect">
            <a:avLst/>
          </a:prstGeom>
          <a:ln w="0">
            <a:noFill/>
          </a:ln>
        </p:spPr>
      </p:sp>
      <p:sp>
        <p:nvSpPr>
          <p:cNvPr id="84" name="PlaceHolder 2"/>
          <p:cNvSpPr>
            <a:spLocks noGrp="1"/>
          </p:cNvSpPr>
          <p:nvPr>
            <p:ph type="body"/>
          </p:nvPr>
        </p:nvSpPr>
        <p:spPr>
          <a:xfrm>
            <a:off x="466200" y="1835280"/>
            <a:ext cx="6077160" cy="6953040"/>
          </a:xfrm>
          <a:prstGeom prst="rect">
            <a:avLst/>
          </a:prstGeom>
          <a:noFill/>
          <a:ln w="0">
            <a:noFill/>
          </a:ln>
        </p:spPr>
        <p:txBody>
          <a:bodyPr lIns="93600" rIns="93600" tIns="46800" bIns="46800" anchor="t">
            <a:noAutofit/>
          </a:bodyPr>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LEARN TO MANAG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R TIME? (OH-1)</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pray</a:t>
            </a:r>
            <a:r>
              <a:rPr b="0" lang="en-US" sz="1200" spc="-1" strike="noStrike">
                <a:solidFill>
                  <a:srgbClr val="000000"/>
                </a:solidFill>
                <a:latin typeface="Arial"/>
              </a:rPr>
              <a:t>. The most important key to time management is pray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 another item to my already too full list?” you may be asking. A popular book written on prayer and time management sums it up in the book’s title, </a:t>
            </a:r>
            <a:r>
              <a:rPr b="0" i="1" lang="en-US" sz="1200" spc="-1" strike="noStrike">
                <a:solidFill>
                  <a:srgbClr val="000000"/>
                </a:solidFill>
                <a:latin typeface="Arial"/>
              </a:rPr>
              <a:t>Too Busy Not to Pray</a:t>
            </a:r>
            <a:r>
              <a:rPr b="0" lang="en-US" sz="1200" spc="-1" strike="noStrike">
                <a:solidFill>
                  <a:srgbClr val="000000"/>
                </a:solidFill>
                <a:latin typeface="Arial"/>
              </a:rPr>
              <a:t>. Prayer is essential in ordering our lives and allowing God to direct our schedule and commitme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your schedule to God</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o teach us to number our day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that we may gain a heart of wisdom.</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salm 90:1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God your schedule, your responsibilities, your commitments. Ask Him to help you to know His will, to establish your priorities, to help you say no to the things that, while good things, are not part of His plan for you.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we are each given 24 hours a day. God wants us to use them effective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priorities and goals.</a:t>
            </a:r>
            <a:r>
              <a:rPr b="0" lang="en-US" sz="1200" spc="-1" strike="noStrike">
                <a:solidFill>
                  <a:srgbClr val="000000"/>
                </a:solidFill>
                <a:latin typeface="Arial"/>
              </a:rPr>
              <a:t>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your roles.  Woman, wife, mom, daughter, employee, friend, church member, Women’s Ministries Leader, etc. Next, take these roles and list them in order of priority. Ask God to guide you. What are the most important things God has called you to do? Many times our schedules do not reflect what we determine are the priorities of our lives. Instead, our days are too often filled with the “urgent” while those roles and responsibilities that are the most important to us get pushed to the side. That’s not what we want. That’s not what God want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 the important things first. Give the greatest and most immediate attention to the most </a:t>
            </a:r>
            <a:r>
              <a:rPr b="1" i="1" lang="en-US" sz="1200" spc="-1" strike="noStrike">
                <a:solidFill>
                  <a:srgbClr val="000000"/>
                </a:solidFill>
                <a:latin typeface="Arial"/>
              </a:rPr>
              <a:t>	</a:t>
            </a:r>
            <a:r>
              <a:rPr b="1" i="1" lang="en-US" sz="1200" spc="-1" strike="noStrike">
                <a:solidFill>
                  <a:srgbClr val="000000"/>
                </a:solidFill>
                <a:latin typeface="Arial"/>
              </a:rPr>
              <a:t>important jobs.</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goals. What is your purpose? You may want to look at your goals for each of your roles. What do you want to accomplish as a woman? If married, being a support for your husband. Encouraging him in his daily roles. Helping to nurture his relationships with his children. What is your goal as a Women’s Ministries Leader? What do you want to accomplish through your ministr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same for each project you work with. For each program, event, or resource that you plan, determine what the purpose of the project is. What do you want to accomplish through this? What is the mission of the project? As we look at each project through the goal we hope to accomplish, it will help us to stay focused, and not get distracted by unnecessary detai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0161-67A7-4E42-829D-904932DBB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body"/>
          </p:nvPr>
        </p:nvSpPr>
        <p:spPr>
          <a:xfrm>
            <a:off x="388440" y="228600"/>
            <a:ext cx="6388200" cy="8794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iminate unnecessary and inappropriat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yourself, “Is this part of what God has called me to do? Does it fit with the priorities of m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trap many Christians, especially women, fall into to try to be everything to everyone.  To do everything that we’re asked to. But God has called us for specific things. It will mean saying no to some good things. It may mean letting go of one responsibility every time you take on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priorities. Live them. Let go of everything that God has not called you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is does not mean that we spend all our time working and none playing. God does call us to play. With our families. With our friends. He desires us to take care of ourselves. He often called His disciples to come away from the crowd, following the example that He Himself set. Jesus took time to renew and refresh Himself. Despite all that there was to do, and the short time He had to do it, Jesus did not rush, did not stress, took time for friends, and took time to spend resting with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gate as much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don’t delegate for a variety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eel they could do the job better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not planned ahead and there isn’t time to dele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re afraid that the job might not get done. Or at least not don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elegation is important. When we delegate, we are not only relieving some of the burdens and responsibilities from our shoulders, but we are also enabling others to use their gifts and talents in service to God and people. Many times it also gives us the opportunity to mentor someone else into leadership and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can be done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ing and asking God for the righ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a vision of what you want to accomplish in a way that those working on the project can grasp the idea and get excited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tasks clearly and make sure the person understands what i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heckpoints”—opportunities to check on the progress of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for tasks completed—encourage those who are worki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delegation will help train more people to share leadership responsibilities. When you delegate, you are mentoring new leaders! And mentoring is an important aspect of Women’s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and schedule the use of your time – weekly and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room for unexpected events. Our lives are so busy sometimes that nothing else will fit. Always schedule so that if something unexpected pops up, it won’t ruin your enti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nd reduce as many distractions a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optimum use of your peak energy time—are you a morning person? A night owl? Schedule your most important tasks when you are at your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92E3-9386-49F5-B53D-3F847F19F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8800" y="195120"/>
            <a:ext cx="2790720" cy="2094120"/>
          </a:xfrm>
          <a:prstGeom prst="rect">
            <a:avLst/>
          </a:prstGeom>
          <a:ln w="0">
            <a:noFill/>
          </a:ln>
        </p:spPr>
      </p:sp>
      <p:sp>
        <p:nvSpPr>
          <p:cNvPr id="89" name="PlaceHolder 2"/>
          <p:cNvSpPr>
            <a:spLocks noGrp="1"/>
          </p:cNvSpPr>
          <p:nvPr>
            <p:ph type="body"/>
          </p:nvPr>
        </p:nvSpPr>
        <p:spPr>
          <a:xfrm>
            <a:off x="310680" y="2147760"/>
            <a:ext cx="6310440" cy="6718320"/>
          </a:xfrm>
          <a:prstGeom prst="rect">
            <a:avLst/>
          </a:prstGeom>
          <a:noFill/>
          <a:ln w="0">
            <a:noFill/>
          </a:ln>
        </p:spPr>
        <p:txBody>
          <a:bodyPr lIns="93600" rIns="93600" tIns="46800" bIns="46800" anchor="t">
            <a:noAutofit/>
          </a:bodyPr>
          <a:p>
            <a:pPr lvl="1" marL="779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PLANNING (OH-2)</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 over your schedule each day. </a:t>
            </a:r>
            <a:r>
              <a:rPr b="0" lang="en-US" sz="1200" spc="-1" strike="noStrike">
                <a:solidFill>
                  <a:srgbClr val="000000"/>
                </a:solidFill>
                <a:latin typeface="Arial"/>
              </a:rPr>
              <a:t>Allow God to show you what needs to be done today and what can be scheduled for another day. Give Him your plans—what do you want to accomplish today? What have you planned on doing? Give it to Him and then ask Him for what He desires. Trust Him to do what is the most important and don’t beat yourself up over items that go undone. When you give Him your schedule, it’s His responsibility. The</a:t>
            </a:r>
            <a:r>
              <a:rPr b="1" lang="en-US" sz="1200" spc="-1" strike="noStrike">
                <a:solidFill>
                  <a:srgbClr val="000000"/>
                </a:solidFill>
                <a:latin typeface="Arial"/>
              </a:rPr>
              <a:t> Three Golden Rules of Daily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ake a list of things to do to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Set priorities and work on the most importan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Do it every da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ddition to “to do” lists, master lists are very helpful. </a:t>
            </a:r>
            <a:r>
              <a:rPr b="0" lang="en-US" sz="1200" spc="-1" strike="noStrike">
                <a:solidFill>
                  <a:srgbClr val="000000"/>
                </a:solidFill>
                <a:latin typeface="Arial"/>
              </a:rPr>
              <a:t>These are continuous lists of ideas, tasks, telephone calls, errands, agenda items, report notes and other jobs to do. Add them to your list as they arise. Cross them off as you do them. Note deadlines of when items need to be completed. Schedule them into your daily planner.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quick tips for planning:</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writing pad beside your bed—if you wake up thinking of an idea, jot it down. This not only records your ideas, but also is great for reducing stress. Once “dumped” on the writing pad, your brain switches off again and you’ll sleep more easily.</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cribble pad with you as you travel (or a voice activated tape recorder) to do the same as you driv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ime spent waiting for appointments by taking something useful to read or projects to work on with you. These are also great opportunities to update your calendar.</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to Your Schedule</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s important to be flexible, it’s also very important to keep time commitments.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n appointment for 2:00 pm, make sure that you are there at 2:00 pm. If something detains you and you will be unable to be on time, contact the person with whom you are meeting and let them know you are running late. Offer to reschedule for a time that will suit them if needed.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ve scheduled a committee meeting to begin at 1:00 pm, begin promptly at 1:00 pm regardless of whether everyone has arrived. In this way we can teach others to be on time, too, or else they will miss out.</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program is to begin at a certain time, begin promptly. </a:t>
            </a:r>
            <a:endParaRPr b="0" lang="en-US" sz="1200" spc="-1" strike="noStrike">
              <a:solidFill>
                <a:srgbClr val="000000"/>
              </a:solidFill>
              <a:latin typeface="Arial"/>
            </a:endParaRPr>
          </a:p>
          <a:p>
            <a:pPr marL="311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we can be careless about our punctuality. But by not being prompt for appointments or beginning events/meetings on time, we not only throw our schedules off, but others’ schedules as well. Keeping things on time will cause less stress to our lives and show value to those around u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1A60-8323-4BB3-A1A4-173FBA8F6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being late or starting late is socially acceptable, we can set a new precedent by being on time and starting promp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Daily Planner: A Time Managemen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e a daily planner that will best suit your style</a:t>
            </a:r>
            <a:r>
              <a:rPr b="0" lang="en-US" sz="1200" spc="-1" strike="noStrike">
                <a:solidFill>
                  <a:srgbClr val="000000"/>
                </a:solidFill>
                <a:latin typeface="Arial"/>
              </a:rPr>
              <a:t>. Qualities to consider when choos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nner” format; ie, It is a planning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that lie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ily planner with a time managemen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ge of features (like sections for address book, goal planning, expense recor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y-to-a-pag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loose leaf system so that you can add or remove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you write in your daily pl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ppointments, weekly appointments, monthly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 for comments for planning and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of telephone calls/record of significant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e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planner work for you. It can become a powerful time management tool. Idea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year enter important dates like meetings, school and public holidays, conferences, birthdays, anniversar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cheduling too tightly. Give yourself “margins”—space to add items that pop up unexpecte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ay, check the next day’s appointments and activities so that you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day planner with you. This will enable you to add notes as you think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1E54-BA4F-4B3B-85A2-2503C23CF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2021040" y="585720"/>
            <a:ext cx="3105000" cy="23288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617B-8A23-4DFF-BA02-C878AF928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787400" y="663480"/>
            <a:ext cx="3183120" cy="2387520"/>
          </a:xfrm>
          <a:prstGeom prst="rect">
            <a:avLst/>
          </a:prstGeom>
          <a:ln w="0">
            <a:noFill/>
          </a:ln>
        </p:spPr>
      </p:sp>
      <p:sp>
        <p:nvSpPr>
          <p:cNvPr id="97" name="PlaceHolder 2"/>
          <p:cNvSpPr>
            <a:spLocks noGrp="1"/>
          </p:cNvSpPr>
          <p:nvPr>
            <p:ph type="body"/>
          </p:nvPr>
        </p:nvSpPr>
        <p:spPr>
          <a:xfrm>
            <a:off x="701280" y="3241800"/>
            <a:ext cx="5607000" cy="535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do with all the paperwork that enters your home or office? Find yourself moving it from place to place? Or piling it until there’s so much you’ll never get through it? How can we get a handle on the enormous amounts of paperwork that invades our l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9F21-9D82-4D57-915C-9E53D429F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787400" y="663480"/>
            <a:ext cx="3416400" cy="2563920"/>
          </a:xfrm>
          <a:prstGeom prst="rect">
            <a:avLst/>
          </a:prstGeom>
          <a:ln w="0">
            <a:noFill/>
          </a:ln>
        </p:spPr>
      </p:sp>
      <p:sp>
        <p:nvSpPr>
          <p:cNvPr id="100"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rt your paperwork the first time you handle it. (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to “DRAFT” your mail. Go through the entire mail; sort into one of these fiv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elegate—</a:t>
            </a:r>
            <a:r>
              <a:rPr b="0" lang="en-US" sz="1200" spc="-1" strike="noStrike">
                <a:solidFill>
                  <a:srgbClr val="000000"/>
                </a:solidFill>
                <a:latin typeface="Arial"/>
              </a:rPr>
              <a:t>This could be incoming information that should be delegated to someone with a responsibility for that particular activity. Or, it could be something that you feel would be of interest to another colleague—clip a quick note to it and put in your “out” tray. (At home, put it at the person’s place at the kitchen table. This is a great time to teach your children how to handle paperwork,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a:solidFill>
                  <a:srgbClr val="000000"/>
                </a:solidFill>
                <a:latin typeface="Arial"/>
              </a:rPr>
              <a:t>	</a:t>
            </a:r>
            <a:r>
              <a:rPr b="1" lang="en-US" sz="1200" spc="-1" strike="noStrike">
                <a:solidFill>
                  <a:srgbClr val="000000"/>
                </a:solidFill>
                <a:latin typeface="Arial"/>
              </a:rPr>
              <a:t>Read—</a:t>
            </a:r>
            <a:r>
              <a:rPr b="0" lang="en-US" sz="1200" spc="-1" strike="noStrike">
                <a:solidFill>
                  <a:srgbClr val="000000"/>
                </a:solidFill>
                <a:latin typeface="Arial"/>
              </a:rPr>
              <a:t>Have a file for journals, articles, updates, magazines, etc. for later reading (ie. save these for appointments or that time befor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ct—</a:t>
            </a:r>
            <a:r>
              <a:rPr b="0" lang="en-US" sz="1200" spc="-1" strike="noStrike">
                <a:solidFill>
                  <a:srgbClr val="000000"/>
                </a:solidFill>
                <a:latin typeface="Arial"/>
              </a:rPr>
              <a:t>When you have sorted all the mail, return to this pile and attend to those items that need immediate attention. Check each piece of mail for deadline date, “return” forms, and required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File—</a:t>
            </a:r>
            <a:r>
              <a:rPr b="0" lang="en-US" sz="1200" spc="-1" strike="noStrike">
                <a:solidFill>
                  <a:srgbClr val="000000"/>
                </a:solidFill>
                <a:latin typeface="Arial"/>
              </a:rPr>
              <a:t>A recent survey concluded that 75% of all the paperwork we file will not be seen again until we clean out our files! So consider carefully whether you need to file it. (Those requiring filing would be company and relevant government policy documents, certain legislation, correspondence that has longer-term implica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a:solidFill>
                  <a:srgbClr val="000000"/>
                </a:solidFill>
                <a:latin typeface="Arial"/>
              </a:rPr>
              <a:t>	</a:t>
            </a:r>
            <a:r>
              <a:rPr b="1" lang="en-US" sz="1200" spc="-1" strike="noStrike">
                <a:solidFill>
                  <a:srgbClr val="000000"/>
                </a:solidFill>
                <a:latin typeface="Arial"/>
              </a:rPr>
              <a:t>Toss—</a:t>
            </a:r>
            <a:r>
              <a:rPr b="0" lang="en-US" sz="1200" spc="-1" strike="noStrike">
                <a:solidFill>
                  <a:srgbClr val="000000"/>
                </a:solidFill>
                <a:latin typeface="Arial"/>
              </a:rPr>
              <a:t>This applies to junk mail, advertising, etc. Be strong. Don’t be a hoarder unless you know for sure you use the material within the next month. By then the product will have been superseded and the price increased anyw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F557-15AD-4C6B-BC05-4E8613D91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787400" y="663480"/>
            <a:ext cx="3338640" cy="2505240"/>
          </a:xfrm>
          <a:prstGeom prst="rect">
            <a:avLst/>
          </a:prstGeom>
          <a:ln w="0">
            <a:noFill/>
          </a:ln>
        </p:spPr>
      </p:sp>
      <p:sp>
        <p:nvSpPr>
          <p:cNvPr id="103"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ver handle a piece of paper more than twice.</a:t>
            </a:r>
            <a:r>
              <a:rPr b="0" lang="en-US" sz="1200" spc="-1" strike="noStrike">
                <a:solidFill>
                  <a:srgbClr val="000000"/>
                </a:solidFill>
                <a:latin typeface="Arial"/>
              </a:rPr>
              <a:t>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handle a document a maximum of only twice – once on sorting and once when resolv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een unnecessary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your name from mailing lists that provide you with junk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subscriptions to newsletters, catalogues that you do not use, or serve no re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cate a time for paperwork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 a habit of processing paper—either at the beginning or end of the day for at least 30 minutes. It will give you a feeling of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your action p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your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timesaving options—form letters, compliment slips, handwritten re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lephone—its quicker and che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mail—its more convenient for many busines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arginal notes to assist with repl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DB5AA-1BBD-4F62-8B5F-95DC74577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E942-2B4F-4275-98BE-1A649855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510B2-C721-46B7-82E1-6E0A8C77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630F9-1107-450D-B4D8-3D05B4656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3AF3C-6A1C-4F45-ABD1-0869CAF86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0ACC-5E87-4FFD-A44C-B9DBF03E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7454-BCDD-4172-937C-200B712F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A5D3A-E82F-4622-AAD0-063F68F66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5700-91FC-47B2-9709-05BFEEB7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2DC7-2E78-4E57-B3B2-A864E8AFE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1B00-01AD-4B6A-8D0C-01A070F89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1EE6-8256-452A-A1C4-36B787A6F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AC2F-89AB-4039-97D6-B2D2D180E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me Management</a:t>
            </a:r>
            <a:endParaRPr b="0" lang="en-US" sz="4400" spc="-1" strike="noStrike">
              <a:solidFill>
                <a:srgbClr val="ffffff"/>
              </a:solidFill>
              <a:latin typeface="Arial"/>
            </a:endParaRPr>
          </a:p>
        </p:txBody>
      </p:sp>
      <p:sp>
        <p:nvSpPr>
          <p:cNvPr id="49" name="Rectangle 4"/>
          <p:cNvSpPr/>
          <p:nvPr/>
        </p:nvSpPr>
        <p:spPr>
          <a:xfrm>
            <a:off x="1577880" y="2603520"/>
            <a:ext cx="64771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hne Jean Thomas &amp; Tamyra Hors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ertification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Minist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eeting Managemen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6" name="Rectangle 4"/>
          <p:cNvSpPr/>
          <p:nvPr/>
        </p:nvSpPr>
        <p:spPr>
          <a:xfrm>
            <a:off x="914400" y="1215720"/>
            <a:ext cx="8229600" cy="57884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rst, pray about the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oritize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your mission and purpose.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stribute your agenda a few days before your meeting.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llow others to contribute to your agenda. </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egin and end your meeting on time.</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t time limits for discussion</a:t>
            </a:r>
            <a:endParaRPr b="0" lang="en-US" sz="3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ick to the agenda.</a:t>
            </a:r>
            <a:endParaRPr b="0" lang="en-US" sz="3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genda</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68" name=""/>
          <p:cNvGraphicFramePr/>
          <p:nvPr/>
        </p:nvGraphicFramePr>
        <p:xfrm>
          <a:off x="685800" y="1600200"/>
          <a:ext cx="8153280" cy="3956040"/>
        </p:xfrm>
        <a:graphic>
          <a:graphicData uri="http://schemas.openxmlformats.org/drawingml/2006/table">
            <a:tbl>
              <a:tblPr/>
              <a:tblGrid>
                <a:gridCol w="1828800"/>
                <a:gridCol w="2208240"/>
                <a:gridCol w="2824200"/>
                <a:gridCol w="1292040"/>
              </a:tblGrid>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Objectiv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i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 Approve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s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4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2. 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Informa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Success of      func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elebr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3 mi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Action Sheet</a:t>
            </a:r>
            <a:endParaRPr b="0" lang="en-US" sz="4400" spc="-1" strike="noStrike">
              <a:solidFill>
                <a:srgbClr val="ffffff"/>
              </a:solidFill>
              <a:latin typeface="Arial"/>
            </a:endParaRPr>
          </a:p>
        </p:txBody>
      </p:sp>
      <p:graphicFrame>
        <p:nvGraphicFramePr>
          <p:cNvPr id="70" name=""/>
          <p:cNvGraphicFramePr/>
          <p:nvPr/>
        </p:nvGraphicFramePr>
        <p:xfrm>
          <a:off x="609480" y="1600200"/>
          <a:ext cx="8255160" cy="4322880"/>
        </p:xfrm>
        <a:graphic>
          <a:graphicData uri="http://schemas.openxmlformats.org/drawingml/2006/table">
            <a:tbl>
              <a:tblPr/>
              <a:tblGrid>
                <a:gridCol w="1460520"/>
                <a:gridCol w="1538280"/>
                <a:gridCol w="3097440"/>
                <a:gridCol w="2158920"/>
              </a:tblGrid>
              <a:tr h="1099440">
                <a:tc>
                  <a:txBody>
                    <a:bodyPr lIns="90000" rIns="90000" tIns="46800" bIns="46800" anchor="t">
                      <a:noAutofit/>
                    </a:bodyPr>
                    <a:p>
                      <a:pPr marL="58680" indent="-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Item Numb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Topi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Action &amp; Time Fram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ea typeface="Times New Roman"/>
                        </a:rPr>
                        <a:t>Person Responsi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9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leafle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Approved printing 1000 by April 6 for retreat in Ju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ian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retre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Have retreat applications in churches no later than April 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Chelse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next meet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Decided to meet March 28 at 3 p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Times New Roman"/>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You” Management</a:t>
            </a: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od health is import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ke time for relationship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ime for Go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God to be your time manager, give Him your plans, schedules, agendas, and program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we learn to manage our time?</a:t>
            </a:r>
            <a:br>
              <a:rPr sz="4000"/>
            </a:br>
            <a:endParaRPr b="0" lang="en-US" sz="4000" spc="-1" strike="noStrike">
              <a:solidFill>
                <a:srgbClr val="ffffff"/>
              </a:solidFill>
              <a:latin typeface="Arial"/>
            </a:endParaRPr>
          </a:p>
        </p:txBody>
      </p:sp>
      <p:sp>
        <p:nvSpPr>
          <p:cNvPr id="51" name="Rectangle 3"/>
          <p:cNvSpPr/>
          <p:nvPr/>
        </p:nvSpPr>
        <p:spPr>
          <a:xfrm>
            <a:off x="611280" y="1373040"/>
            <a:ext cx="8326080" cy="52131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pray.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your schedule to God.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riorities and goals. </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e unnecessary and inappropriate activities.</a:t>
            </a: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egate as much as possibl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and schedule the use of your tim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ily Planning</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5" name="Rectangle 4"/>
          <p:cNvSpPr/>
          <p:nvPr/>
        </p:nvSpPr>
        <p:spPr>
          <a:xfrm>
            <a:off x="762120" y="995760"/>
            <a:ext cx="7732440" cy="563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y over your schedule each day</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ddition to “to do” lists, master lists are very helpful</a:t>
            </a:r>
            <a:r>
              <a:rPr b="1" lang="en-US" sz="2600" spc="-1" strike="noStrike">
                <a:solidFill>
                  <a:srgbClr val="ffffff"/>
                </a:solidFill>
                <a:latin typeface="Arial"/>
              </a:rPr>
              <a:t> </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to Your Schedule</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r Daily Planner: A Time Management Tool</a:t>
            </a:r>
            <a:endParaRPr b="0" lang="en-US" sz="26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hoose a daily planner that will best suit your </a:t>
            </a:r>
            <a:r>
              <a:rPr b="0" lang="en-US" sz="2600" spc="-1" strike="noStrike">
                <a:solidFill>
                  <a:srgbClr val="ffffff"/>
                </a:solidFill>
                <a:latin typeface="Arial"/>
              </a:rPr>
              <a:t>	</a:t>
            </a:r>
            <a:r>
              <a:rPr b="0" lang="en-US" sz="2600" spc="-1" strike="noStrike">
                <a:solidFill>
                  <a:srgbClr val="ffffff"/>
                </a:solidFill>
                <a:latin typeface="Arial"/>
              </a:rPr>
              <a:t>style</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 day-to-a-page format</a:t>
            </a:r>
            <a:endParaRPr b="0" lang="en-US" sz="2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sider a loose leaf system so that you can </a:t>
            </a:r>
            <a:r>
              <a:rPr b="0" lang="en-US" sz="2600" spc="-1" strike="noStrike">
                <a:solidFill>
                  <a:srgbClr val="ffffff"/>
                </a:solidFill>
                <a:latin typeface="Arial"/>
              </a:rPr>
              <a:t>	</a:t>
            </a:r>
            <a:r>
              <a:rPr b="0" lang="en-US" sz="2600" spc="-1" strike="noStrike">
                <a:solidFill>
                  <a:srgbClr val="ffffff"/>
                </a:solidFill>
                <a:latin typeface="Arial"/>
              </a:rPr>
              <a:t>add or remove pa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33520" y="7621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well maintained diary, given the nature of life and time, is anything but systematic or neat; it is full of tentative plans, plans re-planned, crossing-out, scribbled ideas and items suddenly remembered. The only diary system worth having has simplicity and flexibility; even then, it will be no more than a tool of time management. More important by far is a realistic attitude to planning...”</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Getting Things Done,</a:t>
            </a:r>
            <a:r>
              <a:rPr b="0" lang="en-US" sz="3200" spc="-1" strike="noStrike">
                <a:solidFill>
                  <a:srgbClr val="ffffff"/>
                </a:solidFill>
                <a:latin typeface="Arial"/>
              </a:rPr>
              <a:t> Roger Bl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per Management</a:t>
            </a:r>
            <a:endParaRPr b="0" lang="en-US" sz="4400" spc="-1" strike="noStrike">
              <a:solidFill>
                <a:srgbClr val="ffffff"/>
              </a:solidFill>
              <a:latin typeface="Arial"/>
            </a:endParaRPr>
          </a:p>
        </p:txBody>
      </p:sp>
      <p:sp>
        <p:nvSpPr>
          <p:cNvPr id="60" name="PlaceHolder 2"/>
          <p:cNvSpPr>
            <a:spLocks noGrp="1"/>
          </p:cNvSpPr>
          <p:nvPr>
            <p:ph/>
          </p:nvPr>
        </p:nvSpPr>
        <p:spPr>
          <a:xfrm>
            <a:off x="685800" y="121932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Paper mismanagement can cripple your ability to function effectively...The real cause of a paperwork crisis is a problem with decision making; picking up the same piece of paper five times and putting it down again because you can’t decide what to do with it. It is curious, but true, that many executives who are experienced in making decisions, feel stymied by individual pieces of paper.” </a:t>
            </a:r>
            <a:endParaRPr b="0" lang="en-US" sz="32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2800" spc="-1" strike="noStrike">
                <a:solidFill>
                  <a:srgbClr val="ffffff"/>
                </a:solidFill>
                <a:latin typeface="Arial"/>
              </a:rPr>
              <a:t>The Organized Executive</a:t>
            </a:r>
            <a:r>
              <a:rPr b="0" lang="en-US" sz="2800" spc="-1" strike="noStrike">
                <a:solidFill>
                  <a:srgbClr val="ffffff"/>
                </a:solidFill>
                <a:latin typeface="Arial"/>
              </a:rPr>
              <a:t>, Stephanie Winst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2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rt your paperwork the first time you handle it.</a:t>
            </a:r>
            <a:endParaRPr b="0" lang="en-US" sz="4000" spc="-1" strike="noStrike">
              <a:solidFill>
                <a:srgbClr val="ffffff"/>
              </a:solidFill>
              <a:latin typeface="Arial"/>
            </a:endParaRPr>
          </a:p>
        </p:txBody>
      </p:sp>
      <p:sp>
        <p:nvSpPr>
          <p:cNvPr id="62" name="Rectangle 4"/>
          <p:cNvSpPr/>
          <p:nvPr/>
        </p:nvSpPr>
        <p:spPr>
          <a:xfrm>
            <a:off x="2819520" y="1995840"/>
            <a:ext cx="3554280" cy="475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
            </a:r>
            <a:r>
              <a:rPr b="0" lang="en-US" sz="3200" spc="-1" strike="noStrike">
                <a:solidFill>
                  <a:srgbClr val="ffffff"/>
                </a:solidFill>
                <a:latin typeface="Arial"/>
              </a:rPr>
              <a:t>	</a:t>
            </a:r>
            <a:r>
              <a:rPr b="0" lang="en-US" sz="3200" spc="-1" strike="noStrike">
                <a:solidFill>
                  <a:srgbClr val="ffffff"/>
                </a:solidFill>
                <a:latin typeface="Arial"/>
              </a:rPr>
              <a:t>    Deleg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      Re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ff"/>
                </a:solidFill>
                <a:latin typeface="Arial"/>
              </a:rPr>
              <a:t>	</a:t>
            </a:r>
            <a:r>
              <a:rPr b="0" lang="en-US" sz="3200" spc="-1" strike="noStrike">
                <a:solidFill>
                  <a:srgbClr val="ffffff"/>
                </a:solidFill>
                <a:latin typeface="Arial"/>
              </a:rPr>
              <a:t>Act</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a:r>
            <a:r>
              <a:rPr b="0" lang="en-US" sz="3200" spc="-1" strike="noStrike">
                <a:solidFill>
                  <a:srgbClr val="ffffff"/>
                </a:solidFill>
                <a:latin typeface="Arial"/>
              </a:rPr>
              <a:t>	</a:t>
            </a:r>
            <a:r>
              <a:rPr b="0" lang="en-US" sz="3200" spc="-1" strike="noStrike">
                <a:solidFill>
                  <a:srgbClr val="ffffff"/>
                </a:solidFill>
                <a:latin typeface="Arial"/>
              </a:rPr>
              <a:t>File</a:t>
            </a: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t>
            </a:r>
            <a:r>
              <a:rPr b="0" lang="en-US" sz="3200" spc="-1" strike="noStrike">
                <a:solidFill>
                  <a:srgbClr val="ffffff"/>
                </a:solidFill>
                <a:latin typeface="Arial"/>
              </a:rPr>
              <a:t>	</a:t>
            </a:r>
            <a:r>
              <a:rPr b="0" lang="en-US" sz="3200" spc="-1" strike="noStrike">
                <a:solidFill>
                  <a:srgbClr val="ffffff"/>
                </a:solidFill>
                <a:latin typeface="Arial"/>
              </a:rPr>
              <a:t>    Tos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33520" y="6858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handle a piece of paper more than twi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reen unnecessary pap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cate a time for paperwork each da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cus on your action pile</a:t>
            </a:r>
            <a:endParaRPr b="0" lang="en-US" sz="3600" spc="-1" strike="noStrike">
              <a:solidFill>
                <a:srgbClr val="ffffff"/>
              </a:solidFill>
              <a:latin typeface="Arial"/>
            </a:endParaRPr>
          </a:p>
        </p:txBody>
      </p:sp>
      <p:pic>
        <p:nvPicPr>
          <p:cNvPr id="64" name="Picture 5" descr=""/>
          <p:cNvPicPr/>
          <p:nvPr/>
        </p:nvPicPr>
        <p:blipFill>
          <a:blip r:embed="rId1"/>
          <a:stretch/>
        </p:blipFill>
        <p:spPr>
          <a:xfrm>
            <a:off x="5791320" y="4267080"/>
            <a:ext cx="25732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Melanie Strahle</cp:lastModifiedBy>
  <dcterms:modified xsi:type="dcterms:W3CDTF">2008-05-12T20:38:57Z</dcterms:modified>
  <cp:revision>14</cp:revision>
  <dc:subject/>
  <dc:title>How do we learn to Manage our Time? </dc:title>
</cp:coreProperties>
</file>